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A66-6971-4890-A6AA-C0AE732A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5D6-16AE-4229-B954-843B37A9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382-3DD4-4403-82A8-D570D0FA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135-BCE0-437D-9074-BAB5A585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EC4-225E-4D08-9BB8-21FBF0A2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964-BC8E-41EA-8987-AE064730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356-4800-404E-B29B-A9BD50AF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682-8FF7-4541-9E62-31EFB665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F45-232E-4915-B1FD-7A218979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398-3808-49C0-9775-BB401E7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28C-9D19-4F54-B278-E79E9386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C2D-121E-4075-9327-555ED0E8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38B1-CD6F-4E1D-A757-8A4AE7F20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0.wav" TargetMode="External"/><Relationship Id="rId2" Type="http://schemas.microsoft.com/office/2007/relationships/media" Target="file:///tmp/home/.config/libreoffice/4/user/gallery/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0.wav" TargetMode="External"/><Relationship Id="rId3" Type="http://schemas.microsoft.com/office/2007/relationships/media" Target="file:///tmp/home/.config/libreoffice/4/user/gallery/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25640"/>
            <a:ext cx="91440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пресноводна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рыб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308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щу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430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2472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0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308560"/>
            <a:ext cx="899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форе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909120" cy="462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67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78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4913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41800" y="5300640"/>
            <a:ext cx="449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лосось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3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17440" y="5300640"/>
            <a:ext cx="305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сёт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53440" cy="4179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3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137800" cy="5459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74160" y="5424480"/>
            <a:ext cx="327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саза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24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451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плот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7675" r="0" b="7089"/>
          <a:stretch/>
        </p:blipFill>
        <p:spPr>
          <a:xfrm>
            <a:off x="539640" y="449280"/>
            <a:ext cx="7993080" cy="5111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34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4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380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ле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488360" cy="4459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7461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254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00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ому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492120"/>
            <a:ext cx="7129440" cy="496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731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16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28000" y="5546880"/>
            <a:ext cx="363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ара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064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7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502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ар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913800" cy="4989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1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502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еркальный кар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27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1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502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окун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4720" y="353880"/>
            <a:ext cx="7127640" cy="534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08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430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еска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452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753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502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иран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76360" y="254160"/>
            <a:ext cx="6300720" cy="5551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9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419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уго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5386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0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380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со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2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09:15:54Z</dcterms:created>
  <dc:creator> </dc:creator>
  <dc:description/>
  <dc:language>en-US</dc:language>
  <cp:lastModifiedBy>Interbaby</cp:lastModifiedBy>
  <dcterms:modified xsi:type="dcterms:W3CDTF">2005-11-10T06:59:11Z</dcterms:modified>
  <cp:revision>17</cp:revision>
  <dc:subject/>
  <dc:title>пресноводная рыба 16</dc:title>
</cp:coreProperties>
</file>